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43C-2B98-464A-80AC-7EAAC501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B08-B972-47EE-A199-93371DD6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86D-93BB-4837-BF87-EA127620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BBA-FACF-4D38-A911-098FCB46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5816-17ED-42EA-963D-E4F0717F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5370-7770-4E7D-AA95-FFA81B19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18C4-075C-40D7-A973-99AAE6C4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D03C-6538-4EA1-9759-9AA2C10C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40C3-B2CD-4562-BE36-30663BA6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4D9D-6DB2-44F0-B026-938C5804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FEB1-DD82-4A4C-8655-2D66528A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7A9-1DEF-4E91-B7B0-49151D0C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D285-003A-4BFE-A2B2-BA02B5AE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FE7E-E724-4422-89EF-D747EDA9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B696-CDF5-4599-8733-3D79056E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5558-DA17-44C7-92F2-047447EB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3878-7B9B-4CE8-9A9F-D5C7173E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328-FBD5-4A3E-A3CE-D6A8EEDF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BF9-A886-47D9-8413-669B6C69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5ED-D3E2-483C-9911-E1E0FE1C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4B3-1019-4C16-AFB5-A84A859A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14A-8C8E-41F3-9F84-9DAA6F2F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49E0-3762-40CF-89CE-52DDD79D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C08-3D62-453B-9BB3-231AEB19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5AE5-600C-4F1F-9C47-091D906D8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4915-9778-42E6-8A54-0EDA819DF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34369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Pont Königsberg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6000" y="43657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wch chi ddarganfod ffordd o groesi pob pont unwaith un un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N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hewch groesi yr un bont ddwywai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24000" y="1557360"/>
            <a:ext cx="4686480" cy="2687760"/>
            <a:chOff x="2124000" y="1557360"/>
            <a:chExt cx="4686480" cy="2687760"/>
          </a:xfrm>
        </p:grpSpPr>
        <p:grpSp>
          <p:nvGrpSpPr>
            <p:cNvPr id="101" name=""/>
            <p:cNvGrpSpPr/>
            <p:nvPr/>
          </p:nvGrpSpPr>
          <p:grpSpPr>
            <a:xfrm>
              <a:off x="2352240" y="1889640"/>
              <a:ext cx="4229280" cy="2083680"/>
              <a:chOff x="2352240" y="1889640"/>
              <a:chExt cx="4229280" cy="208368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2352240" y="2014200"/>
                <a:ext cx="4229280" cy="1733040"/>
                <a:chOff x="2352240" y="2014200"/>
                <a:chExt cx="4229280" cy="17330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352240" y="2014200"/>
                  <a:ext cx="4229280" cy="590400"/>
                </a:xfrm>
                <a:custGeom>
                  <a:avLst/>
                  <a:gdLst/>
                  <a:ahLst/>
                  <a:rect l="l" t="t" r="r" b="b"/>
                  <a:pathLst>
                    <a:path w="6660" h="930">
                      <a:moveTo>
                        <a:pt x="0" y="930"/>
                      </a:moveTo>
                      <a:cubicBezTo>
                        <a:pt x="480" y="705"/>
                        <a:pt x="960" y="480"/>
                        <a:pt x="1260" y="390"/>
                      </a:cubicBezTo>
                      <a:cubicBezTo>
                        <a:pt x="1560" y="300"/>
                        <a:pt x="1560" y="360"/>
                        <a:pt x="1800" y="390"/>
                      </a:cubicBezTo>
                      <a:cubicBezTo>
                        <a:pt x="2040" y="420"/>
                        <a:pt x="2490" y="600"/>
                        <a:pt x="2700" y="570"/>
                      </a:cubicBezTo>
                      <a:cubicBezTo>
                        <a:pt x="2910" y="540"/>
                        <a:pt x="2850" y="300"/>
                        <a:pt x="3060" y="210"/>
                      </a:cubicBezTo>
                      <a:cubicBezTo>
                        <a:pt x="3270" y="120"/>
                        <a:pt x="3750" y="60"/>
                        <a:pt x="3960" y="30"/>
                      </a:cubicBezTo>
                      <a:cubicBezTo>
                        <a:pt x="4170" y="0"/>
                        <a:pt x="4110" y="0"/>
                        <a:pt x="4320" y="30"/>
                      </a:cubicBezTo>
                      <a:cubicBezTo>
                        <a:pt x="4530" y="60"/>
                        <a:pt x="4890" y="180"/>
                        <a:pt x="5220" y="210"/>
                      </a:cubicBezTo>
                      <a:cubicBezTo>
                        <a:pt x="5550" y="240"/>
                        <a:pt x="6060" y="180"/>
                        <a:pt x="6300" y="210"/>
                      </a:cubicBezTo>
                      <a:cubicBezTo>
                        <a:pt x="6540" y="240"/>
                        <a:pt x="6600" y="315"/>
                        <a:pt x="6660" y="39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352240" y="3366720"/>
                  <a:ext cx="4229280" cy="380520"/>
                </a:xfrm>
                <a:custGeom>
                  <a:avLst/>
                  <a:gdLst/>
                  <a:ahLst/>
                  <a:rect l="l" t="t" r="r" b="b"/>
                  <a:pathLst>
                    <a:path w="6660" h="600">
                      <a:moveTo>
                        <a:pt x="0" y="60"/>
                      </a:moveTo>
                      <a:cubicBezTo>
                        <a:pt x="15" y="30"/>
                        <a:pt x="30" y="0"/>
                        <a:pt x="180" y="60"/>
                      </a:cubicBezTo>
                      <a:cubicBezTo>
                        <a:pt x="330" y="120"/>
                        <a:pt x="660" y="360"/>
                        <a:pt x="900" y="420"/>
                      </a:cubicBezTo>
                      <a:cubicBezTo>
                        <a:pt x="1140" y="480"/>
                        <a:pt x="1350" y="390"/>
                        <a:pt x="1620" y="420"/>
                      </a:cubicBezTo>
                      <a:cubicBezTo>
                        <a:pt x="1890" y="450"/>
                        <a:pt x="2250" y="600"/>
                        <a:pt x="2520" y="600"/>
                      </a:cubicBezTo>
                      <a:cubicBezTo>
                        <a:pt x="2790" y="600"/>
                        <a:pt x="2970" y="420"/>
                        <a:pt x="3240" y="420"/>
                      </a:cubicBezTo>
                      <a:cubicBezTo>
                        <a:pt x="3510" y="420"/>
                        <a:pt x="3840" y="600"/>
                        <a:pt x="4140" y="600"/>
                      </a:cubicBezTo>
                      <a:cubicBezTo>
                        <a:pt x="4440" y="600"/>
                        <a:pt x="4770" y="450"/>
                        <a:pt x="5040" y="420"/>
                      </a:cubicBezTo>
                      <a:cubicBezTo>
                        <a:pt x="5310" y="390"/>
                        <a:pt x="5550" y="450"/>
                        <a:pt x="5760" y="420"/>
                      </a:cubicBezTo>
                      <a:cubicBezTo>
                        <a:pt x="5970" y="390"/>
                        <a:pt x="6150" y="240"/>
                        <a:pt x="6300" y="240"/>
                      </a:cubicBezTo>
                      <a:cubicBezTo>
                        <a:pt x="6450" y="240"/>
                        <a:pt x="6600" y="390"/>
                        <a:pt x="6660" y="42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151800" y="2604600"/>
                  <a:ext cx="1333440" cy="837720"/>
                </a:xfrm>
                <a:custGeom>
                  <a:avLst/>
                  <a:gdLst/>
                  <a:ahLst/>
                  <a:rect l="l" t="t" r="r" b="b"/>
                  <a:pathLst>
                    <a:path w="2100" h="1320">
                      <a:moveTo>
                        <a:pt x="630" y="180"/>
                      </a:moveTo>
                      <a:cubicBezTo>
                        <a:pt x="780" y="120"/>
                        <a:pt x="900" y="0"/>
                        <a:pt x="990" y="0"/>
                      </a:cubicBezTo>
                      <a:cubicBezTo>
                        <a:pt x="1080" y="0"/>
                        <a:pt x="1080" y="150"/>
                        <a:pt x="1170" y="180"/>
                      </a:cubicBezTo>
                      <a:cubicBezTo>
                        <a:pt x="1260" y="210"/>
                        <a:pt x="1440" y="180"/>
                        <a:pt x="1530" y="180"/>
                      </a:cubicBezTo>
                      <a:cubicBezTo>
                        <a:pt x="1620" y="180"/>
                        <a:pt x="1680" y="120"/>
                        <a:pt x="1710" y="180"/>
                      </a:cubicBezTo>
                      <a:cubicBezTo>
                        <a:pt x="1740" y="240"/>
                        <a:pt x="1650" y="450"/>
                        <a:pt x="1710" y="540"/>
                      </a:cubicBezTo>
                      <a:cubicBezTo>
                        <a:pt x="1770" y="630"/>
                        <a:pt x="2040" y="660"/>
                        <a:pt x="2070" y="720"/>
                      </a:cubicBezTo>
                      <a:cubicBezTo>
                        <a:pt x="2100" y="780"/>
                        <a:pt x="1980" y="810"/>
                        <a:pt x="1890" y="900"/>
                      </a:cubicBezTo>
                      <a:cubicBezTo>
                        <a:pt x="1800" y="990"/>
                        <a:pt x="1620" y="1200"/>
                        <a:pt x="1530" y="1260"/>
                      </a:cubicBezTo>
                      <a:cubicBezTo>
                        <a:pt x="1440" y="1320"/>
                        <a:pt x="1470" y="1260"/>
                        <a:pt x="1350" y="1260"/>
                      </a:cubicBezTo>
                      <a:cubicBezTo>
                        <a:pt x="1230" y="1260"/>
                        <a:pt x="960" y="1260"/>
                        <a:pt x="810" y="1260"/>
                      </a:cubicBezTo>
                      <a:cubicBezTo>
                        <a:pt x="660" y="1260"/>
                        <a:pt x="480" y="1320"/>
                        <a:pt x="450" y="1260"/>
                      </a:cubicBezTo>
                      <a:cubicBezTo>
                        <a:pt x="420" y="1200"/>
                        <a:pt x="630" y="990"/>
                        <a:pt x="630" y="900"/>
                      </a:cubicBezTo>
                      <a:cubicBezTo>
                        <a:pt x="630" y="810"/>
                        <a:pt x="540" y="750"/>
                        <a:pt x="450" y="720"/>
                      </a:cubicBezTo>
                      <a:cubicBezTo>
                        <a:pt x="360" y="690"/>
                        <a:pt x="150" y="780"/>
                        <a:pt x="90" y="720"/>
                      </a:cubicBezTo>
                      <a:cubicBezTo>
                        <a:pt x="30" y="660"/>
                        <a:pt x="0" y="450"/>
                        <a:pt x="90" y="360"/>
                      </a:cubicBezTo>
                      <a:cubicBezTo>
                        <a:pt x="180" y="270"/>
                        <a:pt x="480" y="240"/>
                        <a:pt x="630" y="18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733640" y="2452680"/>
                  <a:ext cx="1618920" cy="1104120"/>
                </a:xfrm>
                <a:custGeom>
                  <a:avLst/>
                  <a:gdLst/>
                  <a:ahLst/>
                  <a:rect l="l" t="t" r="r" b="b"/>
                  <a:pathLst>
                    <a:path w="2550" h="1740">
                      <a:moveTo>
                        <a:pt x="210" y="420"/>
                      </a:moveTo>
                      <a:cubicBezTo>
                        <a:pt x="300" y="300"/>
                        <a:pt x="570" y="120"/>
                        <a:pt x="750" y="60"/>
                      </a:cubicBezTo>
                      <a:cubicBezTo>
                        <a:pt x="930" y="0"/>
                        <a:pt x="1140" y="30"/>
                        <a:pt x="1290" y="60"/>
                      </a:cubicBezTo>
                      <a:cubicBezTo>
                        <a:pt x="1440" y="90"/>
                        <a:pt x="1560" y="180"/>
                        <a:pt x="1650" y="240"/>
                      </a:cubicBezTo>
                      <a:cubicBezTo>
                        <a:pt x="1740" y="300"/>
                        <a:pt x="1710" y="420"/>
                        <a:pt x="1830" y="420"/>
                      </a:cubicBezTo>
                      <a:cubicBezTo>
                        <a:pt x="1950" y="420"/>
                        <a:pt x="2280" y="240"/>
                        <a:pt x="2370" y="240"/>
                      </a:cubicBezTo>
                      <a:cubicBezTo>
                        <a:pt x="2460" y="240"/>
                        <a:pt x="2340" y="360"/>
                        <a:pt x="2370" y="420"/>
                      </a:cubicBezTo>
                      <a:cubicBezTo>
                        <a:pt x="2400" y="480"/>
                        <a:pt x="2550" y="510"/>
                        <a:pt x="2550" y="600"/>
                      </a:cubicBezTo>
                      <a:cubicBezTo>
                        <a:pt x="2550" y="690"/>
                        <a:pt x="2430" y="840"/>
                        <a:pt x="2370" y="960"/>
                      </a:cubicBezTo>
                      <a:cubicBezTo>
                        <a:pt x="2310" y="1080"/>
                        <a:pt x="2280" y="1260"/>
                        <a:pt x="2190" y="1320"/>
                      </a:cubicBezTo>
                      <a:cubicBezTo>
                        <a:pt x="2100" y="1380"/>
                        <a:pt x="1980" y="1320"/>
                        <a:pt x="1830" y="1320"/>
                      </a:cubicBezTo>
                      <a:cubicBezTo>
                        <a:pt x="1680" y="1320"/>
                        <a:pt x="1380" y="1350"/>
                        <a:pt x="1290" y="1320"/>
                      </a:cubicBezTo>
                      <a:cubicBezTo>
                        <a:pt x="1200" y="1290"/>
                        <a:pt x="1380" y="1080"/>
                        <a:pt x="1290" y="1140"/>
                      </a:cubicBezTo>
                      <a:cubicBezTo>
                        <a:pt x="1200" y="1200"/>
                        <a:pt x="900" y="1620"/>
                        <a:pt x="750" y="1680"/>
                      </a:cubicBezTo>
                      <a:cubicBezTo>
                        <a:pt x="600" y="1740"/>
                        <a:pt x="450" y="1560"/>
                        <a:pt x="390" y="1500"/>
                      </a:cubicBezTo>
                      <a:cubicBezTo>
                        <a:pt x="330" y="1440"/>
                        <a:pt x="450" y="1410"/>
                        <a:pt x="390" y="1320"/>
                      </a:cubicBezTo>
                      <a:cubicBezTo>
                        <a:pt x="330" y="1230"/>
                        <a:pt x="60" y="1050"/>
                        <a:pt x="30" y="960"/>
                      </a:cubicBezTo>
                      <a:cubicBezTo>
                        <a:pt x="0" y="870"/>
                        <a:pt x="180" y="870"/>
                        <a:pt x="210" y="780"/>
                      </a:cubicBezTo>
                      <a:cubicBezTo>
                        <a:pt x="240" y="690"/>
                        <a:pt x="120" y="540"/>
                        <a:pt x="210" y="42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 rot="3618000">
                <a:off x="5552640" y="3385440"/>
                <a:ext cx="685440" cy="2286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81040" y="2814120"/>
                <a:ext cx="685800" cy="2282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6582200">
                <a:off x="5209560" y="2128680"/>
                <a:ext cx="685440" cy="2282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2876760" y="2109960"/>
                <a:ext cx="1560600" cy="1863360"/>
                <a:chOff x="2876760" y="2109960"/>
                <a:chExt cx="1560600" cy="1863360"/>
              </a:xfrm>
            </p:grpSpPr>
            <p:sp>
              <p:nvSpPr>
                <p:cNvPr id="111" name=""/>
                <p:cNvSpPr/>
                <p:nvPr/>
              </p:nvSpPr>
              <p:spPr>
                <a:xfrm rot="6311400">
                  <a:off x="3608640" y="2356200"/>
                  <a:ext cx="685800" cy="228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17631600">
                  <a:off x="3266280" y="3499200"/>
                  <a:ext cx="685440" cy="228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3532200">
                  <a:off x="2781360" y="2405520"/>
                  <a:ext cx="799920" cy="22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3788400">
                  <a:off x="3837960" y="3385080"/>
                  <a:ext cx="685440" cy="22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" name=""/>
            <p:cNvSpPr/>
            <p:nvPr/>
          </p:nvSpPr>
          <p:spPr>
            <a:xfrm>
              <a:off x="6124680" y="1557360"/>
              <a:ext cx="571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y-GB" sz="1800" spc="-1" strike="noStrike">
                  <a:solidFill>
                    <a:srgbClr val="000000"/>
                  </a:solidFill>
                  <a:latin typeface="Comic Sans MS"/>
                  <a:ea typeface="SimSun"/>
                </a:rPr>
                <a:t>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39160" y="3843360"/>
              <a:ext cx="571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y-GB" sz="1800" spc="-1" strike="noStrike">
                  <a:solidFill>
                    <a:srgbClr val="000000"/>
                  </a:solidFill>
                  <a:latin typeface="Comic Sans MS"/>
                  <a:ea typeface="SimSun"/>
                </a:rPr>
                <a:t>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09720" y="2814480"/>
              <a:ext cx="571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y-GB" sz="1800" spc="-1" strike="noStrike">
                  <a:solidFill>
                    <a:srgbClr val="000000"/>
                  </a:solidFill>
                  <a:latin typeface="Comic Sans MS"/>
                  <a:ea typeface="SimSun"/>
                </a:rPr>
                <a:t>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10280" y="2700000"/>
              <a:ext cx="571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y-GB" sz="1800" spc="-1" strike="noStrike">
                  <a:solidFill>
                    <a:srgbClr val="000000"/>
                  </a:solidFill>
                  <a:latin typeface="Comic Sans MS"/>
                  <a:ea typeface="SimSun"/>
                </a:rPr>
                <a:t>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24000" y="2814480"/>
              <a:ext cx="7617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y-GB" sz="1800" spc="-1" strike="noStrike">
                  <a:solidFill>
                    <a:srgbClr val="000000"/>
                  </a:solidFill>
                  <a:latin typeface="Comic Sans MS"/>
                  <a:ea typeface="SimSun"/>
                </a:rPr>
                <a:t>Af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63000" y="981000"/>
            <a:ext cx="73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e gan dinas Königsberg saith pont sy’n croesi’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fon Pregel.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30:16Z</dcterms:created>
  <dc:creator>Carwyn</dc:creator>
  <dc:description/>
  <dc:language>en-US</dc:language>
  <cp:lastModifiedBy>Carwyn</cp:lastModifiedBy>
  <dcterms:modified xsi:type="dcterms:W3CDTF">2008-12-07T19:32:50Z</dcterms:modified>
  <cp:revision>1</cp:revision>
  <dc:subject/>
  <dc:title>Pont Königsberg </dc:title>
</cp:coreProperties>
</file>